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D37-6CBE-46D5-B2C3-677B5894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201-75B1-452B-B20C-2147F932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7E2-AFD7-4D9E-9ABD-00CC0372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7BE-6C6E-4410-8FAE-54C08C3E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74A-5E6B-4FD5-8091-4FAEC263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E56-5B88-425F-A52E-9ABF93E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439-31BC-41A5-8D0A-D70786D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003-4763-44D6-9C32-BE7D99E8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2F4-DC13-4D36-995F-D1E1AFB4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3A1-69A6-4DFA-A7B2-B7CA146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C78-FD15-48DD-9734-8B0B7E3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FD3-823F-4D78-8B90-C3FB93A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7F47-F994-4833-B503-3F81A45290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45440" cy="52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45292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848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3520" y="836640"/>
            <a:ext cx="8880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481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5240" y="495360"/>
            <a:ext cx="8813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1:34:16Z</dcterms:created>
  <dc:creator>이훈삼</dc:creator>
  <dc:description/>
  <dc:language>en-US</dc:language>
  <cp:lastModifiedBy>이훈삼</cp:lastModifiedBy>
  <dcterms:modified xsi:type="dcterms:W3CDTF">2013-02-22T03:39:37Z</dcterms:modified>
  <cp:revision>2</cp:revision>
  <dc:subject/>
  <dc:title>슬라이드 1</dc:title>
</cp:coreProperties>
</file>